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1C1-F43D-4A6D-9052-0F61417D2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EEE-4D43-473E-8CFD-8841C392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C59-79EC-45DD-932B-1C8AB3F0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9CC-418E-4CEA-9373-208B77F9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529-F561-4FDF-B244-1CF224FD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CB6-2293-4BFE-927D-25590960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103-5986-45B1-A06C-2812A36B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D8A-A930-4A2C-8585-7D14BECD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93B-DD85-4BF2-9667-3EF719E8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AF9-77A0-40D6-90D5-9BB3045E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830-A01E-4B6C-BE04-D4F461EB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BEF-4552-43C4-AA0A-30B6AD21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CEED-E4E2-421B-AABE-81EAC6F16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280" y="23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34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1 Causes of Wea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95760"/>
            <a:ext cx="33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3 Gathering Weath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89480" y="0"/>
            <a:ext cx="33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2 Weath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360" y="459576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4 Weather Analysis &amp; Predi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7040" y="69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840" y="3967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4000" y="3841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0600" y="506088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17640" y="505620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10800000">
            <a:off x="1396800" y="3951000"/>
            <a:ext cx="43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active Word Wall for Meteo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275440" y="3147840"/>
            <a:ext cx="11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530680" y="2149560"/>
            <a:ext cx="9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5261040" y="8488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800000">
            <a:off x="1518840" y="32000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o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1490400" y="2152440"/>
            <a:ext cx="16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1918800" y="819000"/>
            <a:ext cx="10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92160" y="4735440"/>
            <a:ext cx="4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3920" y="471960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Learning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0040" y="5224320"/>
            <a:ext cx="3159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 local daily weather forecasts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, newspaper, or inter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k weather in four other cities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 high and low temperatures &amp; levels of precipitation for those 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he weather in different citi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findings of my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2000" y="469260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EO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79720" y="5464080"/>
            <a:ext cx="2416320" cy="2094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>
            <a:off x="3428640" y="4597560"/>
            <a:ext cx="25560" cy="4546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6680" y="7709040"/>
            <a:ext cx="27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ID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ather patterns can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, analyzed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5720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29:38Z</dcterms:created>
  <dc:creator>Office of Technology</dc:creator>
  <dc:description/>
  <dc:language>en-US</dc:language>
  <cp:lastModifiedBy>SDOL</cp:lastModifiedBy>
  <dcterms:modified xsi:type="dcterms:W3CDTF">2009-12-02T17:29:16Z</dcterms:modified>
  <cp:revision>4</cp:revision>
  <dc:subject/>
  <dc:title>Slide 1</dc:title>
</cp:coreProperties>
</file>